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B5BB77-DA5C-4ACF-A18F-FC7F0542A8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1F6EAE-FB0A-44E0-A2EB-45876D1811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11779F-C4B2-4B48-BC3A-1474263E31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854677-C259-463F-82DB-FEAE0E3EB3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BF51A46-3792-4858-85FF-8B088771A8B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2C3783-A308-4D9B-9349-E939C7FEA4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75BFF1-C6B4-4E89-99E3-8278832E27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E96D96-6DCB-4F7F-8AD2-AB317CD6A4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1995B2-A224-4252-B918-06A0C97E24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AB09AA-AF4E-4744-B742-CC75486A20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CF3174-CACA-4EEA-BE23-F8AE784F3C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73E66F-C8CE-41BA-9915-3804BE8B12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1CAEAD-914F-4288-84D8-B3A5F8EADC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5ACE65-11A9-4F1D-BE1D-067BC4BD7D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E20C11-7000-4C42-86A3-EFCE9BB505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A23C8D1-2B3A-4F00-8591-33690C63175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5B96B85-FA95-4F08-A3C3-A1F6A2255AE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DB8397-4F5B-4A8F-BB4A-1A583E748C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8F7E6E-87DF-4F47-B270-70D26C5696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C8BF08-9CE1-4BA3-B32F-EB4DF2A05B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8F797D-CE73-4E23-B79B-79DA90F933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0E0732-5C04-4437-BBC0-81CE27C56B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C04537-FAF2-4CE8-9F0B-44DFBD58F8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6C28B8-C154-4360-A281-408C46B5E5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6781A9-AEF8-441C-B9E7-7764C5B8FB3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EAD355-3402-4BAC-A64F-2F65B7A525E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A921C0B-F209-4F93-9FDA-77234F9C0C0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5F18094-F35B-4CCE-B484-014FECF10CF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FB237D-355B-4CB0-93DD-C3D348C747E1}"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5E59F6-6B70-4D5A-83EA-83AC751F73B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D0ADC9-CEFB-47D8-9BD8-5A2CA3E0A36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3A7FE4-B5C2-4296-B4D5-46B86291EFF2}"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AB163B-DB87-446D-8B32-77BA789CB137}"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BD1706-8FF5-4366-B33F-4FF3FE1785F4}"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633E2B-1A9E-4ECB-93C1-0848248A9369}"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F02B3C-BF07-4077-9F2F-A1D5A6A110C2}"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6E752D-AA92-4687-9BDE-73D7B88A5CE2}"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1E335F-1898-4222-A972-187D7EAB3BBD}"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80A15F-ACB1-4A74-86F6-6EF61ADF5653}"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FBDE72-8F9F-4C34-A7C6-124FA20BED26}"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684DC9-EC19-40C0-867E-0802010A738C}"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DF63C6-4A07-4C0E-983E-0A9BB005DDED}"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0BA982-52A9-44ED-87A1-6643A2432761}"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DDF40A-DC1D-4696-BB9E-613754493D35}"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7E02EA-6E3A-403C-A3A8-E01C3251183C}"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EF70E7-4D01-4B71-8DD0-29F39E6A9E63}"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49FB6B-9833-4A98-9E53-D0A939DEE6D9}"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F15879-390C-46BE-BE4B-A4C15ED39A54}"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61BD6D-7DAF-4FBA-9659-A6CFA0AD938F}"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4979AB-B32E-4AF0-B01D-13C77CB74D72}"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E90E0F-9511-49F5-A9D9-E31284125D25}"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91AEE7-ABC2-4410-BC86-7EA37F8B6374}"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908788-92AE-4C7A-BD44-4B91C81A84E4}"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F547410-62C1-492C-9889-BC65BECA73B4}"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7EA160-7B77-4961-9631-FACCBBCD3D55}"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9154B5-AB73-497D-BDCD-ED831FBD2ABC}"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4FEB60-4330-4F14-922D-52B92D9B52EB}"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486DB4-C7A4-45A3-B677-4BF55E5A3EDE}"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CFAE9C-1995-4E01-9557-8A94B6A248D3}"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18DACD-B688-4343-B545-40B9660CA40E}"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6CC129-0FBD-4BB8-ACFA-9DCD6550DADE}"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2CED46-028C-4F40-9EFC-8FC303A32B2F}"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96A102-AB28-4833-8BAE-9AFBB48AA67B}"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0995BF-FD15-406C-B59C-668ECA30D807}"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C06D0D-2285-40E1-8A76-625FC7AD79A7}"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6427AE-4CFC-4B15-83F3-FC5462C45742}"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CCDED6-83F4-4F04-92BA-41690A4893CD}"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9ACDC4-AFA1-421C-9E0A-EE1681A561DB}"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6A2278-E437-40A0-92E8-8016444E66A7}"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EBFF90-3BCC-4F16-8171-F473E2F053A5}"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9473D1-C047-4E23-B60D-7C1FB259C7ED}"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F4F257-4BA5-4C59-8AC2-0BD379CDEC0C}"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8CFBD1-E089-4EBF-AB2F-CA956F12CA4A}"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120FA5-5D78-4757-B1FB-A73729DEC574}"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F90D136-2B5A-4752-B6D4-A3148FA0D947}"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DE2413-81D4-40A0-91FE-D8247522B6D3}"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192837-47B7-4CF8-AF65-AA1F96C70075}"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8B19722-A908-43D5-8330-97E9DBB85A07}"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7C4194-FBF2-4C4C-A819-846C434B9D81}"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165768-C517-489D-B32B-C5E5FD0017CD}"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28C34D-B158-4995-BFD9-9140029B28A0}"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31BBC8-05F5-4F1A-BD11-CCC25CBF727A}"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FAE3E9-CDAB-4A59-ACA1-0B29507AC271}"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FD4354-DA21-40E5-BACA-C6784280F0DE}"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27C025-BBFA-4476-9993-CE8F94E132FB}"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4957292-816D-4F4C-B0B5-67A9A9C259BB}"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10C3E6-C143-46BB-BCF3-241133D68EB3}"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EC32DC-74B7-4DF2-BFFB-F6E13D896C1C}"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E15859-72D4-4B43-8A4B-494C90BD9CF5}"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4079C0-EB29-4195-A9D3-C3991B227074}"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E4E131-50C5-44C4-9E2E-23E034096E4E}"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D092170-6DDB-4CF6-9C9B-C76C8B71D852}"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773737-E6A0-4F79-891B-1D4545FA9744}"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6FD248-D64B-48A4-9C6A-0FF358276738}"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FD9CA4-0C5A-4B36-9F89-FCE1BAE53A13}"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FA91AA-05F5-40BE-BEC2-83672007B1DC}"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F976BC0-3796-4C0D-843C-4E2CB8527B97}"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DFC328-0FDB-47E5-8CE2-BFB1076E4778}"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3ACAFE-7586-4D2F-9B7A-9CB655C99B76}"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31F6FF-8113-400C-AD34-50AA3D3EE16C}"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3626A4-1949-4782-B363-1859B60AEC8A}"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E3F9A3-8B5F-4359-A735-64FFE90E8E99}"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2EB607-1521-498E-A188-33EEF9E44C91}"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9DC7CAE-7D57-4E3B-9926-8929E0309170}"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933B02-6BC1-4C0B-B94B-DDA9C82E643A}"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797893-3106-4188-83C5-FF8210FF0F18}"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A91808-7C5F-4B56-AAC6-5C9233288BD6}"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4045471-4A10-4D57-A1EC-81968FF43FDB}"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DF3901-E37C-4229-AA09-F09E28D0898F}"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9246DB9-20C8-4514-B9F6-F1B00929A53C}"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F1E54E-A57E-4616-A376-09E3E7BAEF41}"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D2D167-CC11-42FE-AFF5-46B05EA1961A}"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4B2984-3330-4FFD-BEE4-3D4E61DB7FA8}"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8580AF-98A8-4FB8-9EF8-A4A6A7477D87}"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55241B-38BE-49F6-A16F-D32ED853D678}"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E206E0-01CA-45C5-BE85-BAAE83CD9DA9}"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02C46F-BF64-4750-BA56-BFA83A1CC32B}"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C6434A-0FDC-4C99-8115-B52733C6DEEB}"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12E473-6791-49A1-B49C-5FB60F818FEE}"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60A3C4-13C9-4E8C-8E48-75FEEAA6B53D}"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C9945B-7DF1-42C2-AA87-F178701A2DEB}"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8028E1-6614-424A-BA32-91606645217A}"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B3D24A-8362-4585-AED4-CAF79A658695}"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721BEF-190A-466F-9BB8-7DA4C919E18A}"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E17460-6D87-4560-8626-8F00B0FAEF0B}"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17A5584-4DA7-42EE-A7B3-0659F10A33DA}"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4765AA-E190-47FA-8BBE-5523AEB39B95}"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B76453-FBDE-4ADD-A52C-EC40F570A8A8}"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2E2AEE-0C6B-4AA5-A8A4-56C9BADD7CC6}"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46312B-BFBC-4409-9EBE-5D61DCB32A57}"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FB5A88-40CF-4051-BA22-75A6933A0B98}"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CB9F07-8350-4530-A77F-B96F3501CBF0}"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54E2CA-8E9F-4417-8611-96CAD35A8844}"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999E6B-8CCB-47A2-8BDD-B113DB2D2655}"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17F9BC-5D64-4B02-A8D3-54678227090E}"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94A4FB-4D9F-4872-B832-6B2BB873F2BF}"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F10806-69ED-407B-BBA4-D5F6946BAA79}"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B6DF56-4985-4850-BA0B-168E1702DAD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8026D3-5F20-4659-A012-CCDF879903EB}"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0B20D0-99E0-4D97-A10F-76F5CDBF5CF7}"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06B2E2-365B-4E82-90F8-46B3EEF8472E}"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468E8C-FCA1-48D4-8496-2188BFE7D223}"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0C9193-4461-4556-BEF0-023D945B579D}"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613119-52B4-4C7E-BB1B-8C1D334D0684}"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029D9A-10D6-4808-81B1-A9276DB42A40}"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E5282C-2550-4C01-BC6D-157DF594C953}"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042D85-A147-49CC-8774-25AE5F654A52}"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6F3ED3-48D1-4387-A366-C993077ED344}"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5E5AFC-4BEC-4D55-AC08-D0953506271D}"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240A0A-153E-490E-8810-ACDA4C8024A6}"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D99AC5-8B6D-4B90-86F0-DB1C3FC700BC}"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B72D54-D9BA-46D2-8C8E-9F02E4F6B310}"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DD1D53-5A91-4B78-AB46-DECCBAF3E976}"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A1B27F0-7353-4429-BEDB-29DEB507F0CE}"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4E763C-3FB0-4CA5-8E37-4F762AD3D24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99D948-F788-4A6B-9708-BC71D7C38C4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315C69-A23E-4CAC-977D-F31C3740CA1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254140-E178-474B-9BF9-F64E81E07F2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EB6161-69C5-494F-AF7E-A08136DE2CA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6F8501-5B93-466B-984F-19951076097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D569953-C933-4D30-AED1-661DFC090DE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CC5AAE-251A-4F51-A301-B51934F9AEA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97A757-E863-497E-B412-BFA9FD1CF5F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D0061F-5BBE-4749-97AC-7CF0C3298C9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4A2365-3F87-4602-A413-157C469A648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6F8DA3-D04A-43EF-BC15-C02A7F9C8BE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542545-7AFC-42F0-B4EE-865E1CDA44D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45F5F1-6A45-4E59-B0C6-DB256DA22F7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5F4765-BBF2-4503-AA37-87FD263FA7A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AB53F0-F56B-4F64-9E99-5341D6B3910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6AEC5F-19A0-43AE-B54B-342FAA7998D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7E5E43-9F19-4954-8897-44472C3B28C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F18B74-BCFA-49F7-B9C4-45F127D7C77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7B352F-0884-4A52-8743-78BB2315611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21A39E-45E1-4ACA-AC4F-8C4ED40FB8C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8A3B7A-559B-4167-94D1-6AB1EC1D767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B16B0B-6C6F-4C59-8045-962C1680829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4C9999-3012-4509-BB4D-D05C4967A4E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86FB1D-17DA-4CFC-A560-35F1CE18329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AE5398-3DBC-4DDC-ABC5-46E69FD8BC0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C4C956-3DC6-4CBB-A0A7-11446FE6A90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A5A577-14DF-4A80-98A2-C84D555D425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9C1E1F-F6F5-4F9B-A92F-89A0959BF8D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61E6E2-B899-4AB3-9010-05089EA29A9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3C9231-DD66-4326-BE26-69FE95CF9A8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B5CCD0-2603-407B-BA75-FE4D299D0E7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3DD2A3-F314-41B5-A0DE-1E856373D92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BA5D27-94B8-4104-AC12-33E5DE8CFCE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40ED99-9498-4248-AC4F-9ED82D1AFA4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2F05C4-B624-47FE-8052-901EDD2C409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8FABA1-DF66-4687-9051-A88076976F3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65AC33-4A9A-4FD6-9565-2E49F65A6DD2}"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CF4215-7296-4BD8-B954-626476A642E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01A65F-7146-433E-BD37-840FFE59030F}"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1502BD-2472-4495-A392-462058A0DFE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1FCD1C-F826-4CC7-AAC5-FA155DDD83E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255529-3157-4723-8F87-1CEBD3C1327C}"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272861-6ECD-41AA-9891-5354631FF6C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15E3CF-CFEC-478F-85C9-7C878AFC07F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12986B-313C-4582-B95D-8D0F5913328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83E7B6-DCD2-4C41-B09E-5A828822C3C3}"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79D04AF-D3A8-4814-AD3E-EDA8329A9117}"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E58072-C46F-4647-8ED8-3077610953BB}"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3C9AD4-69A5-4FA3-91E7-B1C15B32589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70BF55-408D-4FBD-B534-2BF209C68F65}"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9E7F0B-ED39-4A14-A730-DAE4856C410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92BE65-6DAC-4FC2-9AEF-62A17E9FD9E8}"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07E21B-AAF5-47D1-B20E-DB0AE8446830}"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9F5312-43C4-40B8-8725-BE0BE501B6D2}"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6C297E-062C-46F9-95FF-1816D64ABE0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C4106CD-298A-4A29-9BEB-5D3099A0D47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767EC6-5476-423C-89D9-AD78999835F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9FBD63-9A53-4F9A-B944-C07BD3EB7DF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39F2E1-C710-4EFB-B7CF-DAF9BBF1DF8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A93357-2EC4-4B39-BEF4-8B6642ADEEA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1446BB-7188-4B76-A800-368451D638FE}"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B8610D-D23F-4982-90CC-F5CAB781B92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98C21A-64C4-49F3-8200-9A6BF43149FA}"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BA86D5-2785-4BEC-8939-EB4BF70440F9}"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45313A-A247-4F24-AA9C-7AADB86140CF}"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93D81F-51B4-49B6-A8C5-98B30DCF351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CFEC8D-AC69-4168-B6F4-F8BD57D54BE0}"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02AE24-B1A9-433C-8A2D-FE2950FAB7E8}"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D40219-38B4-4A31-808D-68E5CECDA344}"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6F5516-A093-46A0-A345-ED3598F7D9D6}"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07CCFB1-E832-493F-8141-090B42CEF071}"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5307F2-282F-4EC9-87DD-F49001AE5199}"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1E4AEE-5D8C-4755-ABE2-06F34E1DC42E}"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57528A-2734-4B1C-9A57-3251E0D03A97}"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54E2A8-2CB8-4F9A-92C8-4B1627EF061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49EE01-6F84-49F4-8750-6B117FC938B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BCF835-D5CF-44D7-9AC6-4A90B5E23AB2}"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14FFF5-2E6E-4937-97ED-D1602302407C}"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B07F2A-139A-4F65-90E2-EB5824759DD5}"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595FF6-2C15-4777-AF47-E0A5DBAD1F19}"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C36A47-3521-4F1F-9FD3-0D2E5500FFBD}"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7E0CAD-E7DA-4E21-8927-FB140B691682}"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883451-2E45-4BFA-839C-2604F24C17E2}"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5658D0-5256-4125-8DD7-188F0EECDD80}"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